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.gif" ContentType="image/gif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424-DD65-4010-91F1-59CAE234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290-CEC3-4B8E-BAA8-1A1EE1B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4E1-4CBE-42DF-BBE0-D5BEFF10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DEF-18D1-4FA5-A932-B61EAB2D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803-D586-4F28-9E05-343090A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AB0-2F0E-4014-92F1-2F15A883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786-2288-405E-9536-4D0B9272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97D-78A3-4DBD-93DA-9DBA2B6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21A-D96F-42FC-A9F7-3B6B643A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457-9F2B-4370-8CFB-6FBFE75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38C-4FF6-483B-B985-69651D2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DC7-DF3E-46DA-B04E-452FA3D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A877-AB77-417B-8252-5041A8952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1share.net/upfiles/2004217032227186.swf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3888000" y="3124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5240" y="803160"/>
            <a:ext cx="45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nit  14  Festi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2152800"/>
            <a:ext cx="79628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Unit 14  Festiva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hank06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6324840" cy="4711680"/>
          </a:xfrm>
          <a:prstGeom prst="rect">
            <a:avLst/>
          </a:prstGeom>
          <a:ln w="0">
            <a:noFill/>
          </a:ln>
        </p:spPr>
      </p:pic>
      <p:pic>
        <p:nvPicPr>
          <p:cNvPr id="69" name="thank0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029200" cy="380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6520" y="121932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anks Giv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火鸡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80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50280" y="541008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ur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uple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91520" cy="49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2360" y="579132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St Valentine’s 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dabw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48000" cy="5791320"/>
          </a:xfrm>
          <a:prstGeom prst="rect">
            <a:avLst/>
          </a:prstGeom>
          <a:ln w="0">
            <a:noFill/>
          </a:ln>
        </p:spPr>
      </p:pic>
      <p:pic>
        <p:nvPicPr>
          <p:cNvPr id="76" name="日本盆节6" descr=""/>
          <p:cNvPicPr/>
          <p:nvPr/>
        </p:nvPicPr>
        <p:blipFill>
          <a:blip r:embed="rId2"/>
          <a:stretch/>
        </p:blipFill>
        <p:spPr>
          <a:xfrm>
            <a:off x="0" y="0"/>
            <a:ext cx="255420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日本盆节4" descr=""/>
          <p:cNvPicPr/>
          <p:nvPr/>
        </p:nvPicPr>
        <p:blipFill>
          <a:blip r:embed="rId3"/>
          <a:stretch/>
        </p:blipFill>
        <p:spPr>
          <a:xfrm>
            <a:off x="6759720" y="2743200"/>
            <a:ext cx="23842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271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9520" y="4876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Ob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万圣节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3670200"/>
          </a:xfrm>
          <a:prstGeom prst="rect">
            <a:avLst/>
          </a:prstGeom>
          <a:ln w="0">
            <a:noFill/>
          </a:ln>
        </p:spPr>
      </p:pic>
      <p:pic>
        <p:nvPicPr>
          <p:cNvPr id="81" name="万圣节2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3733560" cy="281448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pic>
        <p:nvPicPr>
          <p:cNvPr id="82" name="17_05_934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352680" cy="2873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83" name="17_05_949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429000" cy="2940120"/>
          </a:xfrm>
          <a:prstGeom prst="rect">
            <a:avLst/>
          </a:prstGeom>
          <a:ln w="54000">
            <a:solidFill>
              <a:srgbClr val="808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371600" y="281952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Hallo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墨西哥鬼节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761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98720" y="5514840"/>
            <a:ext cx="25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he Dea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00200" y="6094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Let's r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7391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720" y="5237280"/>
            <a:ext cx="2047680" cy="162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5097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Read the text fast and find out the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217800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at is the festival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24960" y="4724280"/>
            <a:ext cx="131904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80773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1.  Kwanzaa  is  a  very  old  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2.  The word Kwanzaa means first fruit in Swah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3.  Kwanzaa is based on old African festi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4.  People created Kwanzaa to celebrate American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Kwanzaa is celebrate on Christmas  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6.  People who celebrate Kwanzaa light a candle for each of the seven princi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572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638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51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52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371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609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39006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can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1440" y="700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5960" y="457200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7440" y="49672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7720" y="3886200"/>
            <a:ext cx="60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frican-American culture and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5480" y="501984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from Dec 26 to Jan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春节" descr="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35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800" y="3048120"/>
            <a:ext cx="589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ff"/>
                </a:solidFill>
                <a:latin typeface="方正姚体"/>
                <a:ea typeface="方正姚体"/>
              </a:rPr>
              <a:t>Spring festiv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1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’s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11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4512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821120"/>
            <a:ext cx="45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week following Christmas Day.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73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63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1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68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4512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n 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860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reated the festival so that African Americans would be able to celebrate their history and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8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63700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People would get together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harv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They used to give thanks for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arvests and for lif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They used to honour their ancestors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past,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roup or society they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3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are the principles of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230560"/>
            <a:ext cx="47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Unit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Self-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Living togeth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4.Working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5.Purpo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6.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7.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44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11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1337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begins the day after Christmas Day and ends on New Year’s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41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78936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Because people who celebrate Kwanzaa can enjoy the spirit of the holidays without all the commercial activities of Christ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5097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52252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elebrate it by lighting a candle each day and discussing one of the seven principles of Kwanza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403560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n the last day of Kwanzaa, family and friends gather to enjoy a large meal and to celebrate the new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" y="9907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general introduction to a new festival ---- Kwaanzaa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5053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43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w was Kwanzaa born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68580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seven principles of kwanza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4382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5268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en and how Kwanzaa is celebrated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590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5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87692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y are we all creating n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estival every year 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ianhuadeng" descr=""/>
          <p:cNvPicPr/>
          <p:nvPr/>
        </p:nvPicPr>
        <p:blipFill>
          <a:blip r:embed="rId1"/>
          <a:stretch/>
        </p:blipFill>
        <p:spPr>
          <a:xfrm>
            <a:off x="1447920" y="1123920"/>
            <a:ext cx="601956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7640" y="45720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antern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400800" y="990720"/>
            <a:ext cx="2286000" cy="1752480"/>
          </a:xfrm>
          <a:prstGeom prst="cloudCallout">
            <a:avLst>
              <a:gd name="adj1" fmla="val -83888"/>
              <a:gd name="adj2" fmla="val 1446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33520"/>
            <a:ext cx="2514600" cy="1752480"/>
          </a:xfrm>
          <a:prstGeom prst="cloudCallout">
            <a:avLst>
              <a:gd name="adj1" fmla="val -16981"/>
              <a:gd name="adj2" fmla="val 162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2895480"/>
            <a:ext cx="1981080" cy="1752840"/>
          </a:xfrm>
          <a:prstGeom prst="cloudCallout">
            <a:avLst>
              <a:gd name="adj1" fmla="val -97916"/>
              <a:gd name="adj2" fmla="val 68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914400"/>
            <a:ext cx="2286000" cy="1752480"/>
          </a:xfrm>
          <a:prstGeom prst="cloudCallout">
            <a:avLst>
              <a:gd name="adj1" fmla="val 55069"/>
              <a:gd name="adj2" fmla="val 1370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514600"/>
            <a:ext cx="1981080" cy="1752480"/>
          </a:xfrm>
          <a:prstGeom prst="cloudCallout">
            <a:avLst>
              <a:gd name="adj1" fmla="val 113782"/>
              <a:gd name="adj2" fmla="val 56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447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1523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657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0960" y="5181480"/>
            <a:ext cx="77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an you  create a festival for your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590920"/>
            <a:ext cx="2438280" cy="1752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8000" y="1025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wanzaa is a ______-day festival celebrating the _______ and ________ of African Americans. It is between _____________ and ____________, the week ___________ Christmas Day. There are seven _________for this festival: unity, _______________  , living together,_______________, purpose, creativity and ______. People celebrate the festival by _______ a candle each day and __________ one of the seven principles. They enjoy a ____________ on the last day of Kwanzaa. Kwanzaa, like other important holidays and ________in the world, helps us understand_____________, remember __________________ , and share __________for a happy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98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1160" y="993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3748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901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ember 26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844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anuary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5680" y="1830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ll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9560" y="2262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f-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1988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r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51200" y="3141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3557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3557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cu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3989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rge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4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esti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87640" y="528624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o we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57182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re we c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8720" y="57182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ur h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600" y="-25560"/>
            <a:ext cx="9144000" cy="10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Retell the text</a:t>
            </a: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47920" y="1523880"/>
            <a:ext cx="5943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w1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5320" y="5562720"/>
            <a:ext cx="44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Dragon boat festi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291717331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27560" y="2666880"/>
            <a:ext cx="594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Monotype Corsiva"/>
              </a:rPr>
              <a:t>Mid-autumn Fest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6240" y="3505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on festiv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ongyang01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chongyang02" descr=""/>
          <p:cNvPicPr/>
          <p:nvPr/>
        </p:nvPicPr>
        <p:blipFill>
          <a:blip r:embed="rId2"/>
          <a:stretch/>
        </p:blipFill>
        <p:spPr>
          <a:xfrm>
            <a:off x="457200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chongyang03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822960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1005a" descr=""/>
          <p:cNvPicPr/>
          <p:nvPr/>
        </p:nvPicPr>
        <p:blipFill>
          <a:blip r:embed="rId4"/>
          <a:stretch/>
        </p:blipFill>
        <p:spPr>
          <a:xfrm>
            <a:off x="1066680" y="4206960"/>
            <a:ext cx="3810240" cy="265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6000" y="5029200"/>
            <a:ext cx="33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uble Ninth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清明节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029200" cy="329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029200" cy="329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1120" y="4495680"/>
            <a:ext cx="55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omb sweep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he clear and bright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0200" y="5867280"/>
            <a:ext cx="54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tepping on Greenery festi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芦笙节1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31040"/>
          </a:xfrm>
          <a:prstGeom prst="rect">
            <a:avLst/>
          </a:prstGeom>
          <a:ln w="0">
            <a:noFill/>
          </a:ln>
        </p:spPr>
      </p:pic>
      <p:pic>
        <p:nvPicPr>
          <p:cNvPr id="63" name="凯里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555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0040" y="6016680"/>
            <a:ext cx="51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Kaili Lusheng Festiv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865680" cy="5562360"/>
          </a:xfrm>
          <a:prstGeom prst="rect">
            <a:avLst/>
          </a:prstGeom>
          <a:ln w="0">
            <a:noFill/>
          </a:ln>
        </p:spPr>
      </p:pic>
      <p:pic>
        <p:nvPicPr>
          <p:cNvPr id="66" name="7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5772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91120" y="56833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hristmas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龙洲</cp:lastModifiedBy>
  <dcterms:modified xsi:type="dcterms:W3CDTF">2004-03-03T09:52:10Z</dcterms:modified>
  <cp:revision>139</cp:revision>
  <dc:subject/>
  <dc:title>PowerPoint Presentation</dc:title>
</cp:coreProperties>
</file>